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90A7-856C-4CBF-9A9F-6EF381E16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15BC-669F-4278-B3F9-31ECA20D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9CF7-A288-42D0-A2B4-52260E644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CF58-F3DB-4333-9277-8379F9549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2FAD-3DEE-4501-B2DA-2C72EC0B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756A-F8C0-4DCB-85D3-988F1D44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0293-87EA-4ED7-A75D-A11ADFFB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D1F6-08FF-4BD9-9500-FE10F451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6971-50AE-403B-BB9E-E3E38A49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2B3F-401F-42DB-B21F-279315A4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4336-50CA-4499-860B-DA989248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84AB-06BD-42EB-A043-FD154F74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3D97-58B3-4E3C-886A-F8D0DA8FC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ily Activities and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we doing to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-47 Coll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Chapter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mp the Teach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work: Read Chapter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the results of political, economic and social oppression and the violation of human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mp the Teacher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udent will write down 5 questions as you are reading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question must be found in the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air question is about content...a question you might expect to find on a quiz (In other words, not “What is the first word in the second paragraph of the third page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stump the entire class gets one bonus point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3:04:41Z</dcterms:created>
  <dc:creator>Michael Farrell</dc:creator>
  <dc:description/>
  <dc:language>en-US</dc:language>
  <cp:lastModifiedBy>Michael Farrell</cp:lastModifiedBy>
  <dcterms:modified xsi:type="dcterms:W3CDTF">2011-01-31T13:14:13Z</dcterms:modified>
  <cp:revision>2</cp:revision>
  <dc:subject/>
  <dc:title>Daily Activities and Objectives</dc:title>
</cp:coreProperties>
</file>